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99E4-5936-4EA8-B776-2BC85407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61A-E321-4EBC-A121-57887AB4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3D09-8F5F-4BF7-ABF6-8F94DAA1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65A9-9154-403A-9A0F-776E42F2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1F84-7BEA-4E24-8084-58512018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C649-2ECA-4BF1-8367-8420A4E3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6317-D34A-4443-895F-E0B22CD8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C3D-9646-4E90-A2AC-02DDE61C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02D-6B2F-4325-B725-26179A08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BC98-34FF-4009-895B-735C3849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24F-D36F-495D-AB4C-FE2E7446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A6BB-3BEE-47ED-AA12-1620524D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0856-1D1A-4039-B9D5-C117DD3F5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Growth &amp; 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divided into 4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54000" y="1262160"/>
            <a:ext cx="9269280" cy="4775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03360" y="1806480"/>
            <a:ext cx="16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09920" y="254808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38520" y="29750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89080" y="2600280"/>
            <a:ext cx="120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84480" y="3546360"/>
            <a:ext cx="18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46040" y="4627440"/>
            <a:ext cx="128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 re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35160" y="4065480"/>
            <a:ext cx="18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32280" y="4519440"/>
            <a:ext cx="14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68960" y="40482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59680" y="3922560"/>
            <a:ext cx="14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97520" y="358776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4400" y="3218040"/>
            <a:ext cx="11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50240" y="2552760"/>
            <a:ext cx="11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81560" y="2692440"/>
            <a:ext cx="168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(paired chromati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22760" y="307512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48160" y="25322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om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33760" y="1442880"/>
            <a:ext cx="104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231840"/>
            <a:ext cx="624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is and Cytoki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74600" y="1157400"/>
            <a:ext cx="3348000" cy="2271600"/>
          </a:xfrm>
          <a:custGeom>
            <a:avLst/>
            <a:gdLst/>
            <a:ahLst/>
            <a:rect l="l" t="t" r="r" b="b"/>
            <a:pathLst>
              <a:path w="2109" h="1431">
                <a:moveTo>
                  <a:pt x="2032" y="1388"/>
                </a:moveTo>
                <a:lnTo>
                  <a:pt x="2109" y="0"/>
                </a:lnTo>
                <a:lnTo>
                  <a:pt x="0" y="351"/>
                </a:lnTo>
                <a:lnTo>
                  <a:pt x="1003" y="1431"/>
                </a:lnTo>
                <a:lnTo>
                  <a:pt x="2032" y="13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37400" y="1455840"/>
            <a:ext cx="2966760" cy="3497040"/>
          </a:xfrm>
          <a:custGeom>
            <a:avLst/>
            <a:gdLst/>
            <a:ahLst/>
            <a:rect l="l" t="t" r="r" b="b"/>
            <a:pathLst>
              <a:path w="1869" h="2203">
                <a:moveTo>
                  <a:pt x="0" y="1294"/>
                </a:moveTo>
                <a:lnTo>
                  <a:pt x="9" y="1123"/>
                </a:lnTo>
                <a:lnTo>
                  <a:pt x="617" y="1132"/>
                </a:lnTo>
                <a:lnTo>
                  <a:pt x="780" y="0"/>
                </a:lnTo>
                <a:lnTo>
                  <a:pt x="1869" y="874"/>
                </a:lnTo>
                <a:lnTo>
                  <a:pt x="892" y="2203"/>
                </a:lnTo>
                <a:lnTo>
                  <a:pt x="463" y="2057"/>
                </a:lnTo>
                <a:lnTo>
                  <a:pt x="0" y="129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46440" y="3524400"/>
            <a:ext cx="2967120" cy="2149200"/>
          </a:xfrm>
          <a:custGeom>
            <a:avLst/>
            <a:gdLst/>
            <a:ahLst/>
            <a:rect l="l" t="t" r="r" b="b"/>
            <a:pathLst>
              <a:path w="1869" h="1354">
                <a:moveTo>
                  <a:pt x="652" y="9"/>
                </a:moveTo>
                <a:lnTo>
                  <a:pt x="1380" y="0"/>
                </a:lnTo>
                <a:lnTo>
                  <a:pt x="1869" y="780"/>
                </a:lnTo>
                <a:lnTo>
                  <a:pt x="1063" y="1354"/>
                </a:lnTo>
                <a:lnTo>
                  <a:pt x="0" y="1234"/>
                </a:lnTo>
                <a:lnTo>
                  <a:pt x="103" y="634"/>
                </a:lnTo>
                <a:lnTo>
                  <a:pt x="626" y="600"/>
                </a:lnTo>
                <a:lnTo>
                  <a:pt x="652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98560" y="3878280"/>
            <a:ext cx="3782880" cy="1604880"/>
          </a:xfrm>
          <a:custGeom>
            <a:avLst/>
            <a:gdLst/>
            <a:ahLst/>
            <a:rect l="l" t="t" r="r" b="b"/>
            <a:pathLst>
              <a:path w="2383" h="1011">
                <a:moveTo>
                  <a:pt x="2383" y="0"/>
                </a:moveTo>
                <a:lnTo>
                  <a:pt x="2357" y="377"/>
                </a:lnTo>
                <a:lnTo>
                  <a:pt x="1843" y="420"/>
                </a:lnTo>
                <a:lnTo>
                  <a:pt x="1740" y="1011"/>
                </a:lnTo>
                <a:lnTo>
                  <a:pt x="0" y="994"/>
                </a:lnTo>
                <a:lnTo>
                  <a:pt x="68" y="523"/>
                </a:lnTo>
                <a:lnTo>
                  <a:pt x="1474" y="77"/>
                </a:lnTo>
                <a:lnTo>
                  <a:pt x="2383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1120" y="2244600"/>
            <a:ext cx="4000320" cy="2463840"/>
          </a:xfrm>
          <a:custGeom>
            <a:avLst/>
            <a:gdLst/>
            <a:ahLst/>
            <a:rect l="l" t="t" r="r" b="b"/>
            <a:pathLst>
              <a:path w="2520" h="1552">
                <a:moveTo>
                  <a:pt x="214" y="1552"/>
                </a:moveTo>
                <a:lnTo>
                  <a:pt x="0" y="395"/>
                </a:lnTo>
                <a:lnTo>
                  <a:pt x="565" y="0"/>
                </a:lnTo>
                <a:lnTo>
                  <a:pt x="1260" y="755"/>
                </a:lnTo>
                <a:lnTo>
                  <a:pt x="2297" y="695"/>
                </a:lnTo>
                <a:lnTo>
                  <a:pt x="2322" y="797"/>
                </a:lnTo>
                <a:lnTo>
                  <a:pt x="2520" y="815"/>
                </a:lnTo>
                <a:lnTo>
                  <a:pt x="2511" y="1020"/>
                </a:lnTo>
                <a:lnTo>
                  <a:pt x="1628" y="1106"/>
                </a:lnTo>
                <a:lnTo>
                  <a:pt x="214" y="155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nd longest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oles separate and move to opposite sides of the nucle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oles help to organize the spindle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in condenses into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envelope breaks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54000" y="1262160"/>
            <a:ext cx="9269280" cy="4775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03360" y="1806480"/>
            <a:ext cx="16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09920" y="254808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38520" y="29750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89080" y="2600280"/>
            <a:ext cx="120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84480" y="3546360"/>
            <a:ext cx="18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46040" y="4627440"/>
            <a:ext cx="128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 re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35160" y="4065480"/>
            <a:ext cx="18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32280" y="4519440"/>
            <a:ext cx="14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68960" y="40482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59680" y="3922560"/>
            <a:ext cx="14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97520" y="358776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4400" y="3218040"/>
            <a:ext cx="11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50240" y="2552760"/>
            <a:ext cx="11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81560" y="2692440"/>
            <a:ext cx="168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(paired chromati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22760" y="307512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48160" y="25322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om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33760" y="1442880"/>
            <a:ext cx="104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231840"/>
            <a:ext cx="624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is and Cytoki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74600" y="1157400"/>
            <a:ext cx="3348000" cy="2271600"/>
          </a:xfrm>
          <a:custGeom>
            <a:avLst/>
            <a:gdLst/>
            <a:ahLst/>
            <a:rect l="l" t="t" r="r" b="b"/>
            <a:pathLst>
              <a:path w="2109" h="1431">
                <a:moveTo>
                  <a:pt x="2032" y="1388"/>
                </a:moveTo>
                <a:lnTo>
                  <a:pt x="2109" y="0"/>
                </a:lnTo>
                <a:lnTo>
                  <a:pt x="0" y="351"/>
                </a:lnTo>
                <a:lnTo>
                  <a:pt x="1003" y="1431"/>
                </a:lnTo>
                <a:lnTo>
                  <a:pt x="2032" y="13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00560" y="1143000"/>
            <a:ext cx="2789280" cy="2381400"/>
          </a:xfrm>
          <a:custGeom>
            <a:avLst/>
            <a:gdLst/>
            <a:ahLst/>
            <a:rect l="l" t="t" r="r" b="b"/>
            <a:pathLst>
              <a:path w="1757" h="1500">
                <a:moveTo>
                  <a:pt x="0" y="1406"/>
                </a:moveTo>
                <a:lnTo>
                  <a:pt x="77" y="0"/>
                </a:lnTo>
                <a:lnTo>
                  <a:pt x="1757" y="197"/>
                </a:lnTo>
                <a:lnTo>
                  <a:pt x="1568" y="1320"/>
                </a:lnTo>
                <a:lnTo>
                  <a:pt x="968" y="1311"/>
                </a:lnTo>
                <a:lnTo>
                  <a:pt x="960" y="1491"/>
                </a:lnTo>
                <a:lnTo>
                  <a:pt x="42" y="1500"/>
                </a:lnTo>
                <a:lnTo>
                  <a:pt x="0" y="14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46440" y="3524400"/>
            <a:ext cx="2967120" cy="2149200"/>
          </a:xfrm>
          <a:custGeom>
            <a:avLst/>
            <a:gdLst/>
            <a:ahLst/>
            <a:rect l="l" t="t" r="r" b="b"/>
            <a:pathLst>
              <a:path w="1869" h="1354">
                <a:moveTo>
                  <a:pt x="652" y="9"/>
                </a:moveTo>
                <a:lnTo>
                  <a:pt x="1380" y="0"/>
                </a:lnTo>
                <a:lnTo>
                  <a:pt x="1869" y="780"/>
                </a:lnTo>
                <a:lnTo>
                  <a:pt x="1063" y="1354"/>
                </a:lnTo>
                <a:lnTo>
                  <a:pt x="0" y="1234"/>
                </a:lnTo>
                <a:lnTo>
                  <a:pt x="103" y="634"/>
                </a:lnTo>
                <a:lnTo>
                  <a:pt x="626" y="600"/>
                </a:lnTo>
                <a:lnTo>
                  <a:pt x="652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98560" y="3878280"/>
            <a:ext cx="3782880" cy="1604880"/>
          </a:xfrm>
          <a:custGeom>
            <a:avLst/>
            <a:gdLst/>
            <a:ahLst/>
            <a:rect l="l" t="t" r="r" b="b"/>
            <a:pathLst>
              <a:path w="2383" h="1011">
                <a:moveTo>
                  <a:pt x="2383" y="0"/>
                </a:moveTo>
                <a:lnTo>
                  <a:pt x="2357" y="377"/>
                </a:lnTo>
                <a:lnTo>
                  <a:pt x="1843" y="420"/>
                </a:lnTo>
                <a:lnTo>
                  <a:pt x="1740" y="1011"/>
                </a:lnTo>
                <a:lnTo>
                  <a:pt x="0" y="994"/>
                </a:lnTo>
                <a:lnTo>
                  <a:pt x="68" y="523"/>
                </a:lnTo>
                <a:lnTo>
                  <a:pt x="1474" y="77"/>
                </a:lnTo>
                <a:lnTo>
                  <a:pt x="2383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1120" y="2244600"/>
            <a:ext cx="4000320" cy="2463840"/>
          </a:xfrm>
          <a:custGeom>
            <a:avLst/>
            <a:gdLst/>
            <a:ahLst/>
            <a:rect l="l" t="t" r="r" b="b"/>
            <a:pathLst>
              <a:path w="2520" h="1552">
                <a:moveTo>
                  <a:pt x="214" y="1552"/>
                </a:moveTo>
                <a:lnTo>
                  <a:pt x="0" y="395"/>
                </a:lnTo>
                <a:lnTo>
                  <a:pt x="565" y="0"/>
                </a:lnTo>
                <a:lnTo>
                  <a:pt x="1260" y="755"/>
                </a:lnTo>
                <a:lnTo>
                  <a:pt x="2297" y="695"/>
                </a:lnTo>
                <a:lnTo>
                  <a:pt x="2322" y="797"/>
                </a:lnTo>
                <a:lnTo>
                  <a:pt x="2520" y="815"/>
                </a:lnTo>
                <a:lnTo>
                  <a:pt x="2511" y="1020"/>
                </a:lnTo>
                <a:lnTo>
                  <a:pt x="1628" y="1106"/>
                </a:lnTo>
                <a:lnTo>
                  <a:pt x="214" y="155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romosomes line up across the middle of the cell (at the equato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hromosome is connected to the spindle fiber by the centrom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-54000" y="1262160"/>
            <a:ext cx="9269280" cy="47750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03360" y="1806480"/>
            <a:ext cx="16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09920" y="254808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38520" y="29750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89080" y="2600280"/>
            <a:ext cx="120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84480" y="3546360"/>
            <a:ext cx="18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6040" y="4627440"/>
            <a:ext cx="128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 re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35160" y="4065480"/>
            <a:ext cx="18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32280" y="4519440"/>
            <a:ext cx="14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68960" y="40482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59680" y="3922560"/>
            <a:ext cx="14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97520" y="358776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64400" y="3218040"/>
            <a:ext cx="11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50240" y="2552760"/>
            <a:ext cx="11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81560" y="2692440"/>
            <a:ext cx="168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(paired chromati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22760" y="307512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48160" y="25322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om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33760" y="1442880"/>
            <a:ext cx="104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231840"/>
            <a:ext cx="65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is and Cytoki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74600" y="1157400"/>
            <a:ext cx="3348000" cy="2271600"/>
          </a:xfrm>
          <a:custGeom>
            <a:avLst/>
            <a:gdLst/>
            <a:ahLst/>
            <a:rect l="l" t="t" r="r" b="b"/>
            <a:pathLst>
              <a:path w="2109" h="1431">
                <a:moveTo>
                  <a:pt x="2032" y="1388"/>
                </a:moveTo>
                <a:lnTo>
                  <a:pt x="2109" y="0"/>
                </a:lnTo>
                <a:lnTo>
                  <a:pt x="0" y="351"/>
                </a:lnTo>
                <a:lnTo>
                  <a:pt x="1003" y="1431"/>
                </a:lnTo>
                <a:lnTo>
                  <a:pt x="2032" y="13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00560" y="1143000"/>
            <a:ext cx="2789280" cy="2381400"/>
          </a:xfrm>
          <a:custGeom>
            <a:avLst/>
            <a:gdLst/>
            <a:ahLst/>
            <a:rect l="l" t="t" r="r" b="b"/>
            <a:pathLst>
              <a:path w="1757" h="1500">
                <a:moveTo>
                  <a:pt x="0" y="1406"/>
                </a:moveTo>
                <a:lnTo>
                  <a:pt x="77" y="0"/>
                </a:lnTo>
                <a:lnTo>
                  <a:pt x="1757" y="197"/>
                </a:lnTo>
                <a:lnTo>
                  <a:pt x="1568" y="1320"/>
                </a:lnTo>
                <a:lnTo>
                  <a:pt x="968" y="1311"/>
                </a:lnTo>
                <a:lnTo>
                  <a:pt x="960" y="1491"/>
                </a:lnTo>
                <a:lnTo>
                  <a:pt x="42" y="1500"/>
                </a:lnTo>
                <a:lnTo>
                  <a:pt x="0" y="14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37400" y="1455840"/>
            <a:ext cx="2966760" cy="3497040"/>
          </a:xfrm>
          <a:custGeom>
            <a:avLst/>
            <a:gdLst/>
            <a:ahLst/>
            <a:rect l="l" t="t" r="r" b="b"/>
            <a:pathLst>
              <a:path w="1869" h="2203">
                <a:moveTo>
                  <a:pt x="0" y="1294"/>
                </a:moveTo>
                <a:lnTo>
                  <a:pt x="9" y="1123"/>
                </a:lnTo>
                <a:lnTo>
                  <a:pt x="617" y="1132"/>
                </a:lnTo>
                <a:lnTo>
                  <a:pt x="780" y="0"/>
                </a:lnTo>
                <a:lnTo>
                  <a:pt x="1869" y="874"/>
                </a:lnTo>
                <a:lnTo>
                  <a:pt x="892" y="2203"/>
                </a:lnTo>
                <a:lnTo>
                  <a:pt x="463" y="2057"/>
                </a:lnTo>
                <a:lnTo>
                  <a:pt x="0" y="129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98560" y="3878280"/>
            <a:ext cx="3782880" cy="1604880"/>
          </a:xfrm>
          <a:custGeom>
            <a:avLst/>
            <a:gdLst/>
            <a:ahLst/>
            <a:rect l="l" t="t" r="r" b="b"/>
            <a:pathLst>
              <a:path w="2383" h="1011">
                <a:moveTo>
                  <a:pt x="2383" y="0"/>
                </a:moveTo>
                <a:lnTo>
                  <a:pt x="2357" y="377"/>
                </a:lnTo>
                <a:lnTo>
                  <a:pt x="1843" y="420"/>
                </a:lnTo>
                <a:lnTo>
                  <a:pt x="1740" y="1011"/>
                </a:lnTo>
                <a:lnTo>
                  <a:pt x="0" y="994"/>
                </a:lnTo>
                <a:lnTo>
                  <a:pt x="68" y="523"/>
                </a:lnTo>
                <a:lnTo>
                  <a:pt x="1474" y="77"/>
                </a:lnTo>
                <a:lnTo>
                  <a:pt x="2383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1120" y="2244600"/>
            <a:ext cx="4000320" cy="2463840"/>
          </a:xfrm>
          <a:custGeom>
            <a:avLst/>
            <a:gdLst/>
            <a:ahLst/>
            <a:rect l="l" t="t" r="r" b="b"/>
            <a:pathLst>
              <a:path w="2520" h="1552">
                <a:moveTo>
                  <a:pt x="214" y="1552"/>
                </a:moveTo>
                <a:lnTo>
                  <a:pt x="0" y="395"/>
                </a:lnTo>
                <a:lnTo>
                  <a:pt x="565" y="0"/>
                </a:lnTo>
                <a:lnTo>
                  <a:pt x="1260" y="755"/>
                </a:lnTo>
                <a:lnTo>
                  <a:pt x="2297" y="695"/>
                </a:lnTo>
                <a:lnTo>
                  <a:pt x="2322" y="797"/>
                </a:lnTo>
                <a:lnTo>
                  <a:pt x="2520" y="815"/>
                </a:lnTo>
                <a:lnTo>
                  <a:pt x="2511" y="1020"/>
                </a:lnTo>
                <a:lnTo>
                  <a:pt x="1628" y="1106"/>
                </a:lnTo>
                <a:lnTo>
                  <a:pt x="214" y="155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ster chromatids separate into individual chromosomes and are moved apart to opposite po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-54000" y="1262160"/>
            <a:ext cx="9269280" cy="4775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503360" y="1806480"/>
            <a:ext cx="16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09920" y="254808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38520" y="29750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89080" y="2600280"/>
            <a:ext cx="120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84480" y="3546360"/>
            <a:ext cx="18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46040" y="4627440"/>
            <a:ext cx="128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 re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35160" y="4065480"/>
            <a:ext cx="18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2280" y="4519440"/>
            <a:ext cx="14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68960" y="40482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59680" y="3922560"/>
            <a:ext cx="14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97520" y="358776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64400" y="3218040"/>
            <a:ext cx="11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50240" y="2552760"/>
            <a:ext cx="11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81560" y="2692440"/>
            <a:ext cx="168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(paired chromati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22760" y="307512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48160" y="25322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om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33760" y="1442880"/>
            <a:ext cx="104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231840"/>
            <a:ext cx="65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is and Cytoki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74600" y="1157400"/>
            <a:ext cx="3348000" cy="2271600"/>
          </a:xfrm>
          <a:custGeom>
            <a:avLst/>
            <a:gdLst/>
            <a:ahLst/>
            <a:rect l="l" t="t" r="r" b="b"/>
            <a:pathLst>
              <a:path w="2109" h="1431">
                <a:moveTo>
                  <a:pt x="2032" y="1388"/>
                </a:moveTo>
                <a:lnTo>
                  <a:pt x="2109" y="0"/>
                </a:lnTo>
                <a:lnTo>
                  <a:pt x="0" y="351"/>
                </a:lnTo>
                <a:lnTo>
                  <a:pt x="1003" y="1431"/>
                </a:lnTo>
                <a:lnTo>
                  <a:pt x="2032" y="13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00560" y="1143000"/>
            <a:ext cx="2789280" cy="2381400"/>
          </a:xfrm>
          <a:custGeom>
            <a:avLst/>
            <a:gdLst/>
            <a:ahLst/>
            <a:rect l="l" t="t" r="r" b="b"/>
            <a:pathLst>
              <a:path w="1757" h="1500">
                <a:moveTo>
                  <a:pt x="0" y="1406"/>
                </a:moveTo>
                <a:lnTo>
                  <a:pt x="77" y="0"/>
                </a:lnTo>
                <a:lnTo>
                  <a:pt x="1757" y="197"/>
                </a:lnTo>
                <a:lnTo>
                  <a:pt x="1568" y="1320"/>
                </a:lnTo>
                <a:lnTo>
                  <a:pt x="968" y="1311"/>
                </a:lnTo>
                <a:lnTo>
                  <a:pt x="960" y="1491"/>
                </a:lnTo>
                <a:lnTo>
                  <a:pt x="42" y="1500"/>
                </a:lnTo>
                <a:lnTo>
                  <a:pt x="0" y="14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37400" y="1455840"/>
            <a:ext cx="2966760" cy="3497040"/>
          </a:xfrm>
          <a:custGeom>
            <a:avLst/>
            <a:gdLst/>
            <a:ahLst/>
            <a:rect l="l" t="t" r="r" b="b"/>
            <a:pathLst>
              <a:path w="1869" h="2203">
                <a:moveTo>
                  <a:pt x="0" y="1294"/>
                </a:moveTo>
                <a:lnTo>
                  <a:pt x="9" y="1123"/>
                </a:lnTo>
                <a:lnTo>
                  <a:pt x="617" y="1132"/>
                </a:lnTo>
                <a:lnTo>
                  <a:pt x="780" y="0"/>
                </a:lnTo>
                <a:lnTo>
                  <a:pt x="1869" y="874"/>
                </a:lnTo>
                <a:lnTo>
                  <a:pt x="892" y="2203"/>
                </a:lnTo>
                <a:lnTo>
                  <a:pt x="463" y="2057"/>
                </a:lnTo>
                <a:lnTo>
                  <a:pt x="0" y="129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46440" y="3524400"/>
            <a:ext cx="2967120" cy="2149200"/>
          </a:xfrm>
          <a:custGeom>
            <a:avLst/>
            <a:gdLst/>
            <a:ahLst/>
            <a:rect l="l" t="t" r="r" b="b"/>
            <a:pathLst>
              <a:path w="1869" h="1354">
                <a:moveTo>
                  <a:pt x="652" y="9"/>
                </a:moveTo>
                <a:lnTo>
                  <a:pt x="1380" y="0"/>
                </a:lnTo>
                <a:lnTo>
                  <a:pt x="1869" y="780"/>
                </a:lnTo>
                <a:lnTo>
                  <a:pt x="1063" y="1354"/>
                </a:lnTo>
                <a:lnTo>
                  <a:pt x="0" y="1234"/>
                </a:lnTo>
                <a:lnTo>
                  <a:pt x="103" y="634"/>
                </a:lnTo>
                <a:lnTo>
                  <a:pt x="626" y="600"/>
                </a:lnTo>
                <a:lnTo>
                  <a:pt x="652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1120" y="2244600"/>
            <a:ext cx="4000320" cy="2463840"/>
          </a:xfrm>
          <a:custGeom>
            <a:avLst/>
            <a:gdLst/>
            <a:ahLst/>
            <a:rect l="l" t="t" r="r" b="b"/>
            <a:pathLst>
              <a:path w="2520" h="1552">
                <a:moveTo>
                  <a:pt x="214" y="1552"/>
                </a:moveTo>
                <a:lnTo>
                  <a:pt x="0" y="395"/>
                </a:lnTo>
                <a:lnTo>
                  <a:pt x="565" y="0"/>
                </a:lnTo>
                <a:lnTo>
                  <a:pt x="1260" y="755"/>
                </a:lnTo>
                <a:lnTo>
                  <a:pt x="2297" y="695"/>
                </a:lnTo>
                <a:lnTo>
                  <a:pt x="2322" y="797"/>
                </a:lnTo>
                <a:lnTo>
                  <a:pt x="2520" y="815"/>
                </a:lnTo>
                <a:lnTo>
                  <a:pt x="2511" y="1020"/>
                </a:lnTo>
                <a:lnTo>
                  <a:pt x="1628" y="1106"/>
                </a:lnTo>
                <a:lnTo>
                  <a:pt x="214" y="155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begin to unt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nuclear envelopes will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dle begins to break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olus becomes vi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77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77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-54000" y="1262160"/>
            <a:ext cx="9269280" cy="4775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503360" y="1806480"/>
            <a:ext cx="16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09920" y="254808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38520" y="29750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89080" y="2600280"/>
            <a:ext cx="120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84480" y="3546360"/>
            <a:ext cx="18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46040" y="4627440"/>
            <a:ext cx="128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 re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35160" y="4065480"/>
            <a:ext cx="18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32280" y="4519440"/>
            <a:ext cx="14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68960" y="40482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59680" y="3922560"/>
            <a:ext cx="14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897520" y="358776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4400" y="3218040"/>
            <a:ext cx="11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050240" y="2552760"/>
            <a:ext cx="11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81560" y="2692440"/>
            <a:ext cx="168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(paired chromati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22760" y="307512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48160" y="25322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om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33760" y="1442880"/>
            <a:ext cx="104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90920" y="231840"/>
            <a:ext cx="632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is and Cytoki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74600" y="1157400"/>
            <a:ext cx="3348000" cy="2271600"/>
          </a:xfrm>
          <a:custGeom>
            <a:avLst/>
            <a:gdLst/>
            <a:ahLst/>
            <a:rect l="l" t="t" r="r" b="b"/>
            <a:pathLst>
              <a:path w="2109" h="1431">
                <a:moveTo>
                  <a:pt x="2032" y="1388"/>
                </a:moveTo>
                <a:lnTo>
                  <a:pt x="2109" y="0"/>
                </a:lnTo>
                <a:lnTo>
                  <a:pt x="0" y="351"/>
                </a:lnTo>
                <a:lnTo>
                  <a:pt x="1003" y="1431"/>
                </a:lnTo>
                <a:lnTo>
                  <a:pt x="2032" y="13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00560" y="1143000"/>
            <a:ext cx="2789280" cy="2381400"/>
          </a:xfrm>
          <a:custGeom>
            <a:avLst/>
            <a:gdLst/>
            <a:ahLst/>
            <a:rect l="l" t="t" r="r" b="b"/>
            <a:pathLst>
              <a:path w="1757" h="1500">
                <a:moveTo>
                  <a:pt x="0" y="1406"/>
                </a:moveTo>
                <a:lnTo>
                  <a:pt x="77" y="0"/>
                </a:lnTo>
                <a:lnTo>
                  <a:pt x="1757" y="197"/>
                </a:lnTo>
                <a:lnTo>
                  <a:pt x="1568" y="1320"/>
                </a:lnTo>
                <a:lnTo>
                  <a:pt x="968" y="1311"/>
                </a:lnTo>
                <a:lnTo>
                  <a:pt x="960" y="1491"/>
                </a:lnTo>
                <a:lnTo>
                  <a:pt x="42" y="1500"/>
                </a:lnTo>
                <a:lnTo>
                  <a:pt x="0" y="14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37400" y="1455840"/>
            <a:ext cx="2966760" cy="3497040"/>
          </a:xfrm>
          <a:custGeom>
            <a:avLst/>
            <a:gdLst/>
            <a:ahLst/>
            <a:rect l="l" t="t" r="r" b="b"/>
            <a:pathLst>
              <a:path w="1869" h="2203">
                <a:moveTo>
                  <a:pt x="0" y="1294"/>
                </a:moveTo>
                <a:lnTo>
                  <a:pt x="9" y="1123"/>
                </a:lnTo>
                <a:lnTo>
                  <a:pt x="617" y="1132"/>
                </a:lnTo>
                <a:lnTo>
                  <a:pt x="780" y="0"/>
                </a:lnTo>
                <a:lnTo>
                  <a:pt x="1869" y="874"/>
                </a:lnTo>
                <a:lnTo>
                  <a:pt x="892" y="2203"/>
                </a:lnTo>
                <a:lnTo>
                  <a:pt x="463" y="2057"/>
                </a:lnTo>
                <a:lnTo>
                  <a:pt x="0" y="129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46440" y="3524400"/>
            <a:ext cx="2967120" cy="2149200"/>
          </a:xfrm>
          <a:custGeom>
            <a:avLst/>
            <a:gdLst/>
            <a:ahLst/>
            <a:rect l="l" t="t" r="r" b="b"/>
            <a:pathLst>
              <a:path w="1869" h="1354">
                <a:moveTo>
                  <a:pt x="652" y="9"/>
                </a:moveTo>
                <a:lnTo>
                  <a:pt x="1380" y="0"/>
                </a:lnTo>
                <a:lnTo>
                  <a:pt x="1869" y="780"/>
                </a:lnTo>
                <a:lnTo>
                  <a:pt x="1063" y="1354"/>
                </a:lnTo>
                <a:lnTo>
                  <a:pt x="0" y="1234"/>
                </a:lnTo>
                <a:lnTo>
                  <a:pt x="103" y="634"/>
                </a:lnTo>
                <a:lnTo>
                  <a:pt x="626" y="600"/>
                </a:lnTo>
                <a:lnTo>
                  <a:pt x="652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98560" y="3878280"/>
            <a:ext cx="3782880" cy="1604880"/>
          </a:xfrm>
          <a:custGeom>
            <a:avLst/>
            <a:gdLst/>
            <a:ahLst/>
            <a:rect l="l" t="t" r="r" b="b"/>
            <a:pathLst>
              <a:path w="2383" h="1011">
                <a:moveTo>
                  <a:pt x="2383" y="0"/>
                </a:moveTo>
                <a:lnTo>
                  <a:pt x="2357" y="377"/>
                </a:lnTo>
                <a:lnTo>
                  <a:pt x="1843" y="420"/>
                </a:lnTo>
                <a:lnTo>
                  <a:pt x="1740" y="1011"/>
                </a:lnTo>
                <a:lnTo>
                  <a:pt x="0" y="994"/>
                </a:lnTo>
                <a:lnTo>
                  <a:pt x="68" y="523"/>
                </a:lnTo>
                <a:lnTo>
                  <a:pt x="1474" y="77"/>
                </a:lnTo>
                <a:lnTo>
                  <a:pt x="2383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s to Cell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“Overload”: if a cell gets to big, DNA cannot serve the increasing needs of the growing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ing Material: If a cell gets to big, food, oxygen, water, cannot get in quick enough and wastes cannot get out quick en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 of Surface Area to Volume: Volume increases much more rapidly than surfac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ytoplasm pinches in half. Each daughter cell has an identical set of duplicate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lants the cells do not separate but form a cell plate between the 2 nuclei and the cell wall starts to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77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77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Cell 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daughter cells with same number of chromosomes as the original (parent)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2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2 cells each with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our body cells go through mit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osis is used for growth and development, healing, &amp; when cells die from old 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4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4" dur="2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61960" y="1776240"/>
            <a:ext cx="8020080" cy="3305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35120" y="26780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7339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rface Area (length x width x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20516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length x width x he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46483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io of Surface Area to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31840"/>
            <a:ext cx="820404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o of Surface Area to Vol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the genetic information (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not visible except during cell di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s have 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uit flies have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ots have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3581640" cy="3276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V="1">
            <a:off x="6629400" y="49528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629400" y="4419360"/>
            <a:ext cx="137160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40120" y="560232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r Chromat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05520" y="3809520"/>
            <a:ext cx="12952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87280" y="537372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om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13000" y="1419120"/>
            <a:ext cx="1828800" cy="7239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27400" y="214308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56080" y="23065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46160" y="3765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6240" y="4056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divided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904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8924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904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14840" y="4056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divided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15120" y="3736800"/>
            <a:ext cx="0" cy="3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41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92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3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194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1680" y="4572000"/>
            <a:ext cx="374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1512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4004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27400" y="25621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43280" y="2752560"/>
            <a:ext cx="438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46160" y="2752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15120" y="2752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36760" y="1428840"/>
            <a:ext cx="1828800" cy="723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34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44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60440" y="3089160"/>
            <a:ext cx="121932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9400" y="3089160"/>
            <a:ext cx="121896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54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164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800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02240" y="4869000"/>
            <a:ext cx="10972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6908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442880" y="3187800"/>
            <a:ext cx="5415120" cy="459000"/>
            <a:chOff x="1442880" y="3187800"/>
            <a:chExt cx="5415120" cy="459000"/>
          </a:xfrm>
        </p:grpSpPr>
        <p:sp>
          <p:nvSpPr>
            <p:cNvPr id="93" name=""/>
            <p:cNvSpPr/>
            <p:nvPr/>
          </p:nvSpPr>
          <p:spPr>
            <a:xfrm>
              <a:off x="5838840" y="3187800"/>
              <a:ext cx="1019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 phas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Mitosi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42880" y="3262320"/>
              <a:ext cx="107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85840" y="4957920"/>
            <a:ext cx="8416800" cy="301320"/>
            <a:chOff x="285840" y="4957920"/>
            <a:chExt cx="8416800" cy="301320"/>
          </a:xfrm>
        </p:grpSpPr>
        <p:sp>
          <p:nvSpPr>
            <p:cNvPr id="96" name=""/>
            <p:cNvSpPr/>
            <p:nvPr/>
          </p:nvSpPr>
          <p:spPr>
            <a:xfrm>
              <a:off x="285840" y="4957920"/>
              <a:ext cx="86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33600" y="495792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 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38480" y="495792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27360" y="4957920"/>
              <a:ext cx="995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16400" y="4957920"/>
              <a:ext cx="104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ta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43960" y="4957920"/>
              <a:ext cx="95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lo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88280" y="495792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a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05080" y="1371600"/>
            <a:ext cx="4533840" cy="4367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28720" y="32446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 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457200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3733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 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2278080"/>
            <a:ext cx="1600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hase: the “in-between” period of growth; longest &amp; busiest phase of the cell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cell cycle, a cell grows, prepares for division, and divides into 2 daughter cells, then each begin the cycl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54000" y="1262160"/>
            <a:ext cx="9269280" cy="4775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03360" y="1806480"/>
            <a:ext cx="16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09920" y="254808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38520" y="29750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89080" y="2600280"/>
            <a:ext cx="120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84480" y="3546360"/>
            <a:ext cx="18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46040" y="4627440"/>
            <a:ext cx="128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 re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35160" y="4065480"/>
            <a:ext cx="18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32280" y="4519440"/>
            <a:ext cx="14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68960" y="40482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59680" y="3922560"/>
            <a:ext cx="14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97520" y="358776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64400" y="3218040"/>
            <a:ext cx="11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50240" y="2552760"/>
            <a:ext cx="11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81560" y="2692440"/>
            <a:ext cx="168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(paired chromati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22760" y="307512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48160" y="25322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om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33760" y="1442880"/>
            <a:ext cx="104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231840"/>
            <a:ext cx="65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is and Cytoki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00560" y="1143000"/>
            <a:ext cx="2789280" cy="2381400"/>
          </a:xfrm>
          <a:custGeom>
            <a:avLst/>
            <a:gdLst/>
            <a:ahLst/>
            <a:rect l="l" t="t" r="r" b="b"/>
            <a:pathLst>
              <a:path w="1757" h="1500">
                <a:moveTo>
                  <a:pt x="0" y="1406"/>
                </a:moveTo>
                <a:lnTo>
                  <a:pt x="77" y="0"/>
                </a:lnTo>
                <a:lnTo>
                  <a:pt x="1757" y="197"/>
                </a:lnTo>
                <a:lnTo>
                  <a:pt x="1568" y="1320"/>
                </a:lnTo>
                <a:lnTo>
                  <a:pt x="968" y="1311"/>
                </a:lnTo>
                <a:lnTo>
                  <a:pt x="960" y="1491"/>
                </a:lnTo>
                <a:lnTo>
                  <a:pt x="42" y="1500"/>
                </a:lnTo>
                <a:lnTo>
                  <a:pt x="0" y="14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37400" y="1455840"/>
            <a:ext cx="2966760" cy="3497040"/>
          </a:xfrm>
          <a:custGeom>
            <a:avLst/>
            <a:gdLst/>
            <a:ahLst/>
            <a:rect l="l" t="t" r="r" b="b"/>
            <a:pathLst>
              <a:path w="1869" h="2203">
                <a:moveTo>
                  <a:pt x="0" y="1294"/>
                </a:moveTo>
                <a:lnTo>
                  <a:pt x="9" y="1123"/>
                </a:lnTo>
                <a:lnTo>
                  <a:pt x="617" y="1132"/>
                </a:lnTo>
                <a:lnTo>
                  <a:pt x="780" y="0"/>
                </a:lnTo>
                <a:lnTo>
                  <a:pt x="1869" y="874"/>
                </a:lnTo>
                <a:lnTo>
                  <a:pt x="892" y="2203"/>
                </a:lnTo>
                <a:lnTo>
                  <a:pt x="463" y="2057"/>
                </a:lnTo>
                <a:lnTo>
                  <a:pt x="0" y="129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46440" y="3524400"/>
            <a:ext cx="2967120" cy="2149200"/>
          </a:xfrm>
          <a:custGeom>
            <a:avLst/>
            <a:gdLst/>
            <a:ahLst/>
            <a:rect l="l" t="t" r="r" b="b"/>
            <a:pathLst>
              <a:path w="1869" h="1354">
                <a:moveTo>
                  <a:pt x="652" y="9"/>
                </a:moveTo>
                <a:lnTo>
                  <a:pt x="1380" y="0"/>
                </a:lnTo>
                <a:lnTo>
                  <a:pt x="1869" y="780"/>
                </a:lnTo>
                <a:lnTo>
                  <a:pt x="1063" y="1354"/>
                </a:lnTo>
                <a:lnTo>
                  <a:pt x="0" y="1234"/>
                </a:lnTo>
                <a:lnTo>
                  <a:pt x="103" y="634"/>
                </a:lnTo>
                <a:lnTo>
                  <a:pt x="626" y="600"/>
                </a:lnTo>
                <a:lnTo>
                  <a:pt x="652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98560" y="3878280"/>
            <a:ext cx="3782880" cy="1604880"/>
          </a:xfrm>
          <a:custGeom>
            <a:avLst/>
            <a:gdLst/>
            <a:ahLst/>
            <a:rect l="l" t="t" r="r" b="b"/>
            <a:pathLst>
              <a:path w="2383" h="1011">
                <a:moveTo>
                  <a:pt x="2383" y="0"/>
                </a:moveTo>
                <a:lnTo>
                  <a:pt x="2357" y="377"/>
                </a:lnTo>
                <a:lnTo>
                  <a:pt x="1843" y="420"/>
                </a:lnTo>
                <a:lnTo>
                  <a:pt x="1740" y="1011"/>
                </a:lnTo>
                <a:lnTo>
                  <a:pt x="0" y="994"/>
                </a:lnTo>
                <a:lnTo>
                  <a:pt x="68" y="523"/>
                </a:lnTo>
                <a:lnTo>
                  <a:pt x="1474" y="77"/>
                </a:lnTo>
                <a:lnTo>
                  <a:pt x="2383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1120" y="2244600"/>
            <a:ext cx="4000320" cy="2463840"/>
          </a:xfrm>
          <a:custGeom>
            <a:avLst/>
            <a:gdLst/>
            <a:ahLst/>
            <a:rect l="l" t="t" r="r" b="b"/>
            <a:pathLst>
              <a:path w="2520" h="1552">
                <a:moveTo>
                  <a:pt x="214" y="1552"/>
                </a:moveTo>
                <a:lnTo>
                  <a:pt x="0" y="395"/>
                </a:lnTo>
                <a:lnTo>
                  <a:pt x="565" y="0"/>
                </a:lnTo>
                <a:lnTo>
                  <a:pt x="1260" y="755"/>
                </a:lnTo>
                <a:lnTo>
                  <a:pt x="2297" y="695"/>
                </a:lnTo>
                <a:lnTo>
                  <a:pt x="2322" y="797"/>
                </a:lnTo>
                <a:lnTo>
                  <a:pt x="2520" y="815"/>
                </a:lnTo>
                <a:lnTo>
                  <a:pt x="2511" y="1020"/>
                </a:lnTo>
                <a:lnTo>
                  <a:pt x="1628" y="1106"/>
                </a:lnTo>
                <a:lnTo>
                  <a:pt x="214" y="155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hase: Cell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 are growing, synthesizing proteins and organel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: chromosomes are re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organelles and other molecules required for cell division ar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9:56:02Z</dcterms:created>
  <dc:creator>Perquimans County Schools</dc:creator>
  <dc:description/>
  <dc:language>en-US</dc:language>
  <cp:lastModifiedBy>Perquimans County Schools</cp:lastModifiedBy>
  <dcterms:modified xsi:type="dcterms:W3CDTF">2008-04-11T18:47:44Z</dcterms:modified>
  <cp:revision>6</cp:revision>
  <dc:subject/>
  <dc:title>Cell Growth &amp; Division</dc:title>
</cp:coreProperties>
</file>